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1C66-60B7-4DEB-80D0-D8859A25D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E513-170C-4EBA-B4E0-ADF9FE006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7AD6-D85C-4B96-9F72-1642F533B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A277-3A3E-41DC-A1DF-A47AD7144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EB52-79B8-4472-B9CE-645A0C917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2148-BD63-434D-AA65-7C498D25D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0CBF-5AA2-43D4-97CD-87E3B2E75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A449-19B8-411A-BAE1-42406A14B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C57B-AB74-40B1-87B5-CCDC146D0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EA08-CA26-4A48-BDB3-571F8618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141A-DAB6-441A-B64B-A9D6B45B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3EC8-932C-4FF9-9E63-07EAEFA84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D9BDF-FF3A-49BD-BB34-80EEE0996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Exploring Parks with Ranger Docket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74480" indent="-4744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trip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-4744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swim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-4744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step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-4744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nest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8. brav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9. glad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10. lost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11. spac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403848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5. club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6. ston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7. next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48320" y="-360"/>
            <a:ext cx="449568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12. storm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13. spring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14. students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Exploring Parks with Ranger Dockett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 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Trip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swim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glad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5. step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6. lost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xploring Parks with Ranger Dockett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Group 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6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spacesui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6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dragonfl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6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stree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6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4832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hundred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9. blend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10. hairbrush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11. drawing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-360"/>
            <a:ext cx="403848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5. flow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6. insta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7. comple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48320" y="152280"/>
            <a:ext cx="449568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2. bloom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3. plast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4. explor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8T10:54:43Z</dcterms:created>
  <dc:creator>Kathryn.Cobb</dc:creator>
  <dc:description/>
  <dc:language>en-US</dc:language>
  <cp:lastModifiedBy>Kathryn Cobb</cp:lastModifiedBy>
  <dcterms:modified xsi:type="dcterms:W3CDTF">2008-10-29T11:07:32Z</dcterms:modified>
  <cp:revision>4</cp:revision>
  <dc:subject/>
  <dc:title>The Art Lesson Group A</dc:title>
</cp:coreProperties>
</file>